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A21-C345-4D4A-B542-77915A13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91C-0A40-405D-B850-76EDC751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F58-B6DB-436B-9184-D16EBF0D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170-B9F7-4F97-81E3-E9CD409C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51E-D68B-4B7B-8356-46C91A57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1F7-B410-49B8-9E26-C283C562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184-62C5-4DE9-9DCC-9FE9C46C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FDE-4A2A-4C13-8E3B-B0C8B191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EF5-35FC-43F7-A28F-3FA06C07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0B2-DB20-4CDE-AF25-11D0AB2F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937-FC00-461A-A893-84428CD1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7BF-C2B2-4A3F-9F44-24877419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F1C-39FA-45FA-8210-07484C197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29520" cy="5421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0492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97800" cy="56991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9784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4200" cy="5424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97480" cy="5397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6:30:25Z</dcterms:created>
  <dc:creator>CPR TOLEDO</dc:creator>
  <dc:description/>
  <dc:language>en-US</dc:language>
  <cp:lastModifiedBy>fidel</cp:lastModifiedBy>
  <dcterms:modified xsi:type="dcterms:W3CDTF">2005-11-19T15:37:49Z</dcterms:modified>
  <cp:revision>6</cp:revision>
  <dc:subject/>
  <dc:title>Presentación de PowerPoint</dc:title>
</cp:coreProperties>
</file>