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980-0C31-4B45-8498-A5BADD2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2AA-2F44-4968-84E2-FCC79DA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4BD-C4C8-4D88-AFA9-4D6825A5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13A-702D-4DC4-A95F-6C716A24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396-0887-4E93-B55C-FF2E78F6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F77C-EA98-446B-AC40-D41AB5B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632-9256-4D2C-BDAB-88E5A55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FB52-2CF3-4564-A279-CAA7581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679F-3357-4C6E-8B81-3A41FB4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A5EE-C620-49BC-9748-3813FEC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4B0-B21E-4766-A5F4-2413131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9D6-438A-40F0-8D0A-E0B956E5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C9C2-7B33-4F68-A0D7-65656BC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60C3-57F8-4CE3-AF5F-F972A90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F25A-4DD1-42F1-89C3-7D57EC6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4FDC-8A75-4E31-BC4F-59DE89EB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76CA-B047-4260-97B1-D1E89ED5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63B-D50C-4A3D-9473-A3E15559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284-C471-41FA-8FDA-7D01E80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748-3218-469B-A88B-5E10CDB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887-B22A-4D0A-B60C-63094B6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910-E7BF-495A-A252-6404870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529-A8B4-40A6-8E81-6F51655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CE5-05AE-4CB7-8F75-570C2E77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93C-33FF-425E-A766-FDD804C7266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38C1-5D62-4E11-9C85-D76E00E16C7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FOTOS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11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996633"/>
                </a:solidFill>
                <a:latin typeface="Times New Roman"/>
              </a:rPr>
              <a:t>PROGRAMA DE   ORIENTACIÓN A 6º DE E.P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ARLA INFORMATIVA SOBRE LA EDUCACIÓN SECUNDARIA OBLIG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28800" y="905040"/>
            <a:ext cx="70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O CENTR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1523880" y="331776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ITUTO DE EDUCACIÓN SECUNDARIA “LA SISLA” – SONSECA (TOLE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AZ CLIC EN ESTE TEXTO PARA CONOCER SUS INSTA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87080" y="401760"/>
            <a:ext cx="28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.O.G.S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828800"/>
            <a:ext cx="63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FORMA EDUCATIV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29120" y="3241800"/>
            <a:ext cx="51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r la calidad de la enseñ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156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cuar  la educación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22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arar la enseñanza española a los sistemas educativos europ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3880" y="625320"/>
            <a:ext cx="83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DE CALIDAD DE LA ENSEÑ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3840" y="3962520"/>
            <a:ext cx="50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MAN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petición  de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743200"/>
            <a:ext cx="6324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LIMI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bligatoriedad de la enseñanza  de la reli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tinerarios en 2º de E.S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33720" y="4017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.S.O.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461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DUCACIÓN SECUNDARIA OBLIG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3733920"/>
            <a:ext cx="68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etapa educativa obligatoria que permite acceder a estudios de bachillerato  y Formación Profe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48480" y="32544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.S.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60680" y="209880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2520" y="30369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º CICLO (12-14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22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º CICLO ( 14-16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45356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TUL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524844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duado en Educación Secundaria Oblig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5745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ÍSTICAS DE LA E.S.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62120" y="192096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 Amplía 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colaridad hasta los 16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0481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Apuesta por la atención a la divers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0 alumnos por a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  de espacios y equipami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artamento de Orientación y apoy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t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ención a las necesidades edu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6094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DE LA E.S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12960" y="217476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29200" y="20570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182880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BLIGAT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1828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P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514600"/>
            <a:ext cx="320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 Castellana 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teratura.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 Extranjera.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máticas.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encias Sociales.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encias Naturales.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ucación Física.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. Plástica y Visual.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.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úsica.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UTORÍA.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9368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ª Lengua Extranjera. /Otras*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igión.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 de estudi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10080"/>
            <a:ext cx="38098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ller de Matemá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os de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ller de Artesan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TECNOLOGÍ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tura  que estudia la creación de instrumentos, aparatos y objetos de diferente  naturaleza para resolver y/o dar respuesta  a problemas y nece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52400" y="68580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EDUCACIÓN PLÁSTICA Y VISU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90560" y="3559320"/>
            <a:ext cx="6553080" cy="20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a la capacidad de expresión, análisis y crítica de las imágenes relacionadas con la información visual de nuestra épo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08:33:59Z</dcterms:created>
  <dc:creator>T0B0212001</dc:creator>
  <dc:description/>
  <dc:language>en-US</dc:language>
  <cp:lastModifiedBy>fidel</cp:lastModifiedBy>
  <dcterms:modified xsi:type="dcterms:W3CDTF">2005-11-19T15:35:58Z</dcterms:modified>
  <cp:revision>11</cp:revision>
  <dc:subject/>
  <dc:title>PROGRAMA DE ORIENTACIÓN A 6º DE E.P.</dc:title>
</cp:coreProperties>
</file>